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95F-4517-4105-94D1-5D096EDD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10E-4EDE-4678-926D-3EE38AC6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4D3-4BFA-41CE-BAD5-74AA66F5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75D-A816-436E-9460-F9F139E1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F80F8-F660-46FD-A4BD-9BB9CC5A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8CFC9-E7CD-4B47-A111-DEFE5AC8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18E54-8C8E-42E0-9412-5FE8A94C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11F82-0EF5-4D9F-BE38-18610632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2AB00-9F12-4FEF-8B92-2DC0AA3F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12BF4-A2F1-48B7-9204-C99009B4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05EF1-3477-4340-8D9A-66272A6D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BE6-EA40-46AC-8859-F4435327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21F84-D94F-4579-A0EE-33159E27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FFE82-4E01-4460-97F9-24BC3F0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35258-CE85-4F87-A648-8F5743D3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C2800-C3D0-4D98-BCAD-DDD60558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BF8CC-D54A-41B1-ABF1-AE1C7A2E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1FD-684E-42D9-810E-B0AEA116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7089-E072-4FFF-82CD-7F1793FF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E3D-85A8-44F3-81A3-29D0D527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E1C-A30A-4CA7-818C-5B243C27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308-F185-4BEC-A7D1-CAF74AB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B22-5CAE-4AFF-94A8-D75DA6E3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168-C2B3-4C24-8282-8A89F23D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6BEA-D156-41D5-93EB-A392763C8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5735-9D46-495F-AAEE-60E93C49F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upload.wikimedia.org/wikipedia/commons/5/5d/Carl_Spitzweg_008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a/Samuel_Palmer_005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8/8d/Johann_Heinrich_F&#252;ssli_053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Romanticis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ish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. Bloem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ne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that you know a little about Romanticism, how do you think the romantic words we thought of as a group connect to the literary movemen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the words we thought of deal with reason and science or with emotion and individual experien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wd the picture :: Cloud heart"/>
          <p:cNvPicPr/>
          <p:nvPr/>
        </p:nvPicPr>
        <p:blipFill>
          <a:blip r:embed="rId2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pictures from wikipedia and wiki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duke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mantici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manticism is a movement that took place in the late 1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manticism extended to literature, art and even philoso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ing by Caspar David Friedrich (18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Image:Caspar David Friedrich 027.jpg"/>
          <p:cNvPicPr/>
          <p:nvPr/>
        </p:nvPicPr>
        <p:blipFill>
          <a:blip r:embed="rId2"/>
          <a:stretch/>
        </p:blipFill>
        <p:spPr>
          <a:xfrm>
            <a:off x="4495680" y="160020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ements of Romantici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elements in Romantic literature are: The rights of the common people, a revolutionary spirit and the growth of industrializ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ing by Alfred Rethel (1834)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Image:Alfred Rethel 001.jpg"/>
          <p:cNvPicPr/>
          <p:nvPr/>
        </p:nvPicPr>
        <p:blipFill>
          <a:blip r:embed="rId3"/>
          <a:stretch/>
        </p:blipFill>
        <p:spPr>
          <a:xfrm>
            <a:off x="4495680" y="1295280"/>
            <a:ext cx="43434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ements of Romanticism Continu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mantic writers and artists rejected science and reason and embraced nature, emotion, individual experiences and imagin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ing by Carl Spitzweg (186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00" y="295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00" y="295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Image:Carl Spitzweg 0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447920"/>
            <a:ext cx="4200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mantic Subject 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mantic writing often deals with the following subjec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pism from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quest for beau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e as a source for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e as a refu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e as a revelation of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ting by Samuel Palmer (183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Image:Samuel Palmer 00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295280"/>
            <a:ext cx="4191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mantic Subject Matter Continu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mantic writers also often deal with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interest in folklore and the supernatu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jects from common life, not upper-class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vidual experiences; like hopes and dre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ting by Johann Fussli (180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Image:Johann Heinrich Füssli 05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152360"/>
            <a:ext cx="41148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mantic Attitu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tic writing appeals to the imag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tic writing stresses emotion, not re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mantic writing is generally optim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mantic Techniq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mantic writers often celebrated freedom from the rules and conventions of wri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times, Romantic writers used improbable, or unlikely plo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anguage used in Romantic writing was often the language of the common people, not the upper-cla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inting by Joseph Wright (177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Image:Joseph Wright 003.jpg"/>
          <p:cNvPicPr/>
          <p:nvPr/>
        </p:nvPicPr>
        <p:blipFill>
          <a:blip r:embed="rId2"/>
          <a:stretch/>
        </p:blipFill>
        <p:spPr>
          <a:xfrm>
            <a:off x="4495680" y="1447920"/>
            <a:ext cx="4419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Romantic Her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ero of many Romantic writings was a rebellious and moody per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ero typically was filled with passion and a strong wi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ing by Caspar David Friedrich (181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Image:Caspar David Friedrich 032.jpg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4:49Z</dcterms:created>
  <dc:creator>user</dc:creator>
  <dc:description/>
  <dc:language>en-US</dc:language>
  <cp:lastModifiedBy>user</cp:lastModifiedBy>
  <dcterms:modified xsi:type="dcterms:W3CDTF">2007-02-05T15:55:52Z</dcterms:modified>
  <cp:revision>3</cp:revision>
  <dc:subject/>
  <dc:title>What is Romanticism?</dc:title>
</cp:coreProperties>
</file>